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dt" idx="37"/>
          </p:nvPr>
        </p:nvSpPr>
        <p:spPr>
          <a:xfrm>
            <a:off x="3779640" y="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sldImg"/>
          </p:nvPr>
        </p:nvSpPr>
        <p:spPr>
          <a:xfrm>
            <a:off x="8949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ftr" idx="38"/>
          </p:nvPr>
        </p:nvSpPr>
        <p:spPr>
          <a:xfrm>
            <a:off x="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 type="sldNum" idx="39"/>
          </p:nvPr>
        </p:nvSpPr>
        <p:spPr>
          <a:xfrm>
            <a:off x="377964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9924-ED63-4968-89DA-D78679A80E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ave a common understanding of R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an explain and apply RBM concepts to both programme and operations results frame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78000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C2C4-395A-40C7-89B8-F62AE9C0DE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graphic show a “regular BoS approach. Actual time varies depending on the scope of the B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78000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8E22-978F-4ECE-AD4B-29220275F9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A2BA-ED9F-45E8-BCFA-63F84504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4BDF-8BB5-4C4E-9723-E14354D2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65A0-7551-4509-A216-10AAF5F9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4F2E-08CF-49CC-9950-D02720FC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BA54-DCFF-49BD-A366-8930C916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5276-C325-47B5-8770-C8A8F76E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5D13-8192-4C86-B6AE-A55FCDE9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1397-441E-431E-90CB-A0C108B4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6549-8C81-4AB1-8478-DD09A381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E870-3456-41F2-86BE-82D6288D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DF86-C116-4DD4-9175-9D02460A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1E3A-7CC5-4D6D-88DB-2403021E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AFD33-D9AE-4E93-BC57-60AE72D8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3EA93-4F78-49DC-8ED0-F5A6C65C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9FD87-53F5-4E0D-A0BE-A4ED2A15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EE33E-5094-4299-B79D-78CF966B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17BCA-BD0F-4536-8943-B50FFAFF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DB64-6DBE-41B0-93D5-722D28CB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A9B2B-854D-4DCB-9DBA-1E93B4D9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2022E-16EB-458C-88FA-82DCF1D0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E3147-B46B-4065-B462-33B980BA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54529-36FD-4BF4-BD4B-EDC189F8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0E9A1-F5B5-4ED8-8FE3-8041CFF3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6DF01-9841-4F42-AF55-14291D53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B2C86-132C-4CDD-8EC3-3780285D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AC842-4565-4E03-85EE-077BD757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09E63-59B8-45AC-812B-731CE7AF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0E937-A630-4634-88DC-01C7B668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F405C-A531-4C90-8265-3B6459E9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E82CA-3FC5-46B4-AC08-FDE1DDA6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7B178-9030-45BE-B7CC-BC39D457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56B9F-E679-4F8F-8973-43CC854C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C72EB-4B5E-48B8-93EE-4F971694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32B62-816C-4258-B766-E6F86E8A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297B3-3BA7-40B4-8582-8AE01D59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831B3-7F30-449F-B91C-5FB23694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F2991-06EE-453D-B5FE-FFCF753C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345AB-3B3D-4005-AB7D-A9ECF3B9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97DCC-26D5-4583-9A30-B59E0DD5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E154B-81D1-42A8-A66A-278C5795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B8877-2F0D-48B7-9AD2-492D61C0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EB1C6-83E0-452E-96EA-12584F0F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317F2-984A-4D26-8310-4D58DB65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CBE96-3E3B-4967-9B36-D29AD01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65598-89CC-41E6-B120-34232A59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D6198-641E-4C17-8F99-30357B35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E3F10-D889-453E-9BE7-68C569EC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EAA04-B154-46C6-8A04-3F56EE54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0B202-3A93-4412-93A5-8EB42D0A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2D777-CF0F-4664-BE90-D3364BC4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233B8-E2AD-4A5D-9C22-C3BD11B0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4E385-36DD-4D32-A722-7C3C3D8E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6C1B6-B23B-495F-B0C9-8E39D30D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D3F8C-61E4-4D59-9D84-A759FE75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817A2-CCE1-4E46-9A9E-428A23E8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5386A-6A2F-4CE4-AF55-EC55BCA0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6EBDD-936B-4B0A-9324-1A33E2C5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B6C45-EE81-4D13-93DE-8BE7713B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B7BDF-FC83-40B8-8327-C120E375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74CAB-37FB-451A-A7BD-17D0F969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026A7-1C35-4335-96DF-1BF7176F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E6934-2290-4DE9-8497-E6E3E250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A05D1-4525-40D5-BC6D-BA335A6A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100AA-943B-4A19-B2DC-DAFBB5EF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176B4-CAA0-40EB-A685-9B65EAE3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D5D41-0BA9-4565-83F9-C1E80C06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086BA-D53A-400C-8ECB-E3242C60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A93BC-E27F-45AF-88BF-D99A1CE6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DFDF9-A441-4CCB-8C1A-49FF5CB5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B42FA-7C7D-4511-88A1-DA9995C7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B9D1B-7128-43E5-80E4-3C0906FE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F977B-7159-4124-AB72-E90258FD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C2AB7-2D9D-432C-A0C0-217D6877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666F0-F36C-47D8-BA00-E5F1A794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31D26-BAAA-4EC9-BAB2-1326C581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336EF-20CA-4C65-9B7A-98E62BF3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A3E82-E7E1-467B-942F-A4A4D17C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1F6EC-EF04-4F93-BD16-430CF8B0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020CA-6FAF-4210-AE6C-0209F107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82529-66C5-4182-A400-929A979E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788EB-4035-4C09-9C38-E8BDCB27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3E30E-BC5A-4661-99C6-241493B5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CE49A-8142-452C-9832-6B3166B4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82878-9920-405B-B61A-06DD06B1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C599D-195E-466B-9490-B6DA52A6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1B487-5228-4986-A64B-FD50038C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2E64C-A946-447C-B6EE-B00CBC67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4D3DF-41CF-484E-994D-A3E3F720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97622-9502-4EA5-BCBE-B6066157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DAE2D-BBE7-4F73-8F9B-078ED8B1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D2E5E-1293-4445-B3FC-1A61712C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606D6-4439-4568-9481-9D6A8E8D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C7DD7-6B99-4940-BF06-985BD16A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BF3E1-3618-4F2A-BF1B-81672AFE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E88B2-15FD-4F32-A0F6-93E83190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4816A-F36F-456F-8BFD-D0BD4E8C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9B1DB-6E10-49C0-B5AC-A829DCFB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780D9-DA86-46B8-8B34-B0A1B6E6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507EA-113B-4365-BAFA-20613151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A8782-22F0-407C-BBF2-ADC97080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90B4B-5A0A-4465-96E4-087DFB24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329C6-4B63-4519-BD53-7F88BFED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A5CA2-C6CD-408F-8C82-E9AA4EFD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19585-D2B4-4082-827E-EBFBA218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3EC97-174B-439A-B177-1F7A0AC7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8DA1B-2C93-405F-AF60-640DE1E6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BFBE9-0331-4200-950A-2D09E396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C49B6-6689-4C7F-865F-04BBC4D2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E5B25-D33F-4534-8774-DDBC645C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667FA-06E9-430F-9ECB-D0431FF6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C182F-7A67-42A0-8BE9-6479DEFA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015EA-AC8E-453F-8AA8-05EA892A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ED185-CA10-4F13-B608-24A7E8CE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CC5FB-519E-4805-AB2D-42F3C8EB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268DC-E71F-40E1-AC1E-11BA5627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76E20-D51B-439B-81CF-0F2F681D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F069A-ED32-4147-BCD9-1FF8A66E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1346B-F92A-4A99-B349-91628554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A43A3-BE94-4837-9FF9-AD0617BB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35749-7AE9-4D8B-A215-C7871580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E5ACD-5CD2-4B9C-B8A2-42B84AAB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13C9F-788F-461B-AB60-C4BF5EE8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70CD0-CD68-4ADF-B01E-6E5B0033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12CEB-0F3C-4696-81DC-A5E40430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E9C70-488A-405B-B191-54550586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82F6C-DAD0-477E-9940-188AF44F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4EECA-A7D9-4A29-A270-C33ECE7F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15A26-6774-43A1-9AD6-7311A3F0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B8B96-D16D-44F5-9F46-894B38CF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38E77-CF2C-41A5-B0D4-51FC0469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DBDFC-9707-475B-811F-95669A0A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5633B-86D7-43E6-B2BB-1BF04C27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192C-8928-46E8-ACB2-4DA25C26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CA5-94D5-4CFD-BF41-55AAD350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121-CB75-4670-847B-780BD2EC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41D-E0B9-4462-8E79-E6BE3E0D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F1B-B065-4A82-BC44-42A88810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44F-5B6A-4868-AF20-05CA3494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F588-E654-48F2-A375-B445FE1B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57D6-77EB-44D3-9021-516E45FF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4AF-15AC-4E01-BFC0-CCF3733C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A320-B9F6-4470-B749-BAAF3E32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DA6-D835-47AE-B518-DDCBE9C0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85C-4F6F-4761-AFAA-E3B50022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6F8D-3785-4608-8488-C4FBACBB17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4847-C87F-409B-BBB9-9898C2E415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D246-CF0F-4C55-A1CE-93D9BEE919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5C92-FEFC-4C4C-B3F0-E541EA6F5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EFFA-A118-4FFB-8620-D4583898D3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9DD0-9665-43A4-9EFD-B675432876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8078-83E7-47BE-B253-ACE313494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F84F-3C15-42A5-9C0F-5D3E9476FD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A560-99F5-476E-BA2E-94F35986C1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CFC3-90FA-40CE-8351-3FD973CEE5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E1D5-FA2A-4EBE-BED3-03C9A38B73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A29A-E85A-4D8A-8B50-92A428492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logo"/>
          <p:cNvPicPr/>
          <p:nvPr/>
        </p:nvPicPr>
        <p:blipFill>
          <a:blip r:embed="rId3"/>
          <a:stretch/>
        </p:blipFill>
        <p:spPr>
          <a:xfrm>
            <a:off x="7808760" y="431640"/>
            <a:ext cx="900360" cy="9003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logo"/>
          <p:cNvPicPr/>
          <p:nvPr/>
        </p:nvPicPr>
        <p:blipFill>
          <a:blip r:embed="rId3"/>
          <a:stretch/>
        </p:blipFill>
        <p:spPr>
          <a:xfrm>
            <a:off x="7808760" y="431640"/>
            <a:ext cx="900360" cy="90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logo"/>
          <p:cNvPicPr/>
          <p:nvPr/>
        </p:nvPicPr>
        <p:blipFill>
          <a:blip r:embed="rId3"/>
          <a:stretch/>
        </p:blipFill>
        <p:spPr>
          <a:xfrm>
            <a:off x="7808760" y="431640"/>
            <a:ext cx="900360" cy="9003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DOCO new logo"/>
          <p:cNvPicPr/>
          <p:nvPr/>
        </p:nvPicPr>
        <p:blipFill>
          <a:blip r:embed="rId3"/>
          <a:stretch/>
        </p:blipFill>
        <p:spPr>
          <a:xfrm>
            <a:off x="179280" y="620640"/>
            <a:ext cx="2808360" cy="50796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67840" y="3031920"/>
            <a:ext cx="879948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NDG Business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B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Rectangle 1027"/>
          <p:cNvSpPr/>
          <p:nvPr/>
        </p:nvSpPr>
        <p:spPr>
          <a:xfrm>
            <a:off x="1785960" y="5229360"/>
            <a:ext cx="5943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5395"/>
                </a:solidFill>
                <a:latin typeface="Arial"/>
              </a:rPr>
              <a:t>Advanced Business Operations Trai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5395"/>
                </a:solidFill>
                <a:latin typeface="Arial"/>
              </a:rPr>
              <a:t>Kabul, Afghanistan November 2014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57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Lessons Learned BOS- Pilo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Oval 13"/>
          <p:cNvSpPr/>
          <p:nvPr/>
        </p:nvSpPr>
        <p:spPr>
          <a:xfrm rot="5400000">
            <a:off x="3929400" y="3855240"/>
            <a:ext cx="1086120" cy="3259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15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353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ssons Learned BOS- Pil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pturing the dat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hard work. Needs to be real commitment and leadership to get this done. worth considering getting external hel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urement people seem to prefer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ain their individual relationshi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supplie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staff turnover there is a regular need to re-explain and re-advocate for BOS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pacity development /Regular training should be provid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reinforce the strategic management of programme and operations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rterly UN induction train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Common Business Ops organised as a common staff development action (under the HR component of the BOS) is very much recommen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M&amp;E TWG should be enhanc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llow for better planning and monitoring (of programme as well as operational activiti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09:07:36Z</dcterms:created>
  <dc:creator>goodale</dc:creator>
  <dc:description/>
  <dc:language>en-US</dc:language>
  <cp:lastModifiedBy>Lars Tushuizen</cp:lastModifiedBy>
  <cp:lastPrinted>2013-04-23T17:01:54Z</cp:lastPrinted>
  <dcterms:modified xsi:type="dcterms:W3CDTF">2014-11-20T16:47:31Z</dcterms:modified>
  <cp:revision>993</cp:revision>
  <dc:subject/>
  <dc:title>PowerPoint Presentation</dc:title>
</cp:coreProperties>
</file>